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34F95-3EF5-4BD4-8721-AC3CCA1BE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F65-B998-428B-8CDA-12F0FB53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90A-35A5-4CB7-8F2C-FB26D600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58F-60E7-4B7A-9A81-80A5EC45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698-4D51-4D8D-9A0C-64D10740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191-3663-4A79-AF72-14E655F9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ABF-BAB9-481E-9556-66D22D06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645-616F-472A-94D2-5CAB4F37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EAB-F192-4295-BBCD-2DC98072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6D8-478E-4856-84AA-3508316C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C48-1391-432E-A7D0-894D240D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CAE-5AB9-4AB7-B8EB-6AFE1241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9C4-E230-4F96-A0A2-61C06F44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C658E-A73F-4F66-B292-D88FE0F3B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2079720" cy="16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60175&amp;ct=1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e Page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Diego, January 1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, or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 simple and consistent interchange format for commonly needed gen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biology.plosjournals.org/perlserv/?request=get-document&amp;doi=10.1371/journal.pbio.0060175&amp;ct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, making automated mining of gene info across species easier, if one wanted to, say, submit them to WikiP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0" y="73080"/>
            <a:ext cx="9071280" cy="74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ata_provider&gt;FlyBase&lt;/data_provi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cession&gt;FBgn0000490&lt;/access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primary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ynonym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INTERPRO" key="69" id="IPR001111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orthologs" key="93" id="HOMSA:ENP44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common"&gt;fruit fly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cientific"&gt;Drosophila melanogaster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NCBI Taxonomy" key="107" id="7227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 map="genome" chromosome="2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ition="2428454..2459609" units="bp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ntolog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GO" key="108" id="GO:0007455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term" value="antennal disc morph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evidence_code" value="inferre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dbRefer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pubmed" key="3368" id="17034783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lass Bio::GMOD::GenericGen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GMOD::GenericGenePage::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some abstract clas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_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e new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page = Bio::GMOD::GenericGenePage-&gt;new($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xml = $page-&gt;render_xm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yeast set at gmod.or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mod.org/cgi-bin/gbrowse/chado_yeas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 B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n</dc:creator>
  <dc:description/>
  <dc:language>en-US</dc:language>
  <cp:lastModifiedBy/>
  <cp:revision>0</cp:revision>
  <dc:subject/>
  <dc:title/>
</cp:coreProperties>
</file>